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CE34-290B-4AF6-86A1-7EF428AC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2BB-8C58-44DE-88C8-7A7A2261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66CC-4567-4245-BC09-96F1B921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5474-2AED-4BB2-BD02-0119DD59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02A-074B-45B5-9D19-A0CD47DB0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E308-E931-4D44-BB2A-FE0E2C970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5E3-8691-4879-9618-4A99A97A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DED-69DD-45EA-B053-B0C4FE989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F9E-942E-4BD2-AC91-00E3C056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75D-A2AA-4C75-9311-AB3E7A1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0E0-CDCF-46A4-9CFF-A0E7D2E7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354-1638-4EBE-BBC5-8C36D996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61A-7174-490C-BC74-9C30F2F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B7C-45C2-46A8-85DD-6F2CD24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2E2-0B55-483F-9CD5-F052834F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AA4-0888-469A-8A97-5229906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763-F21C-4B49-94CB-6CC56441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7E6-D4CB-4567-849B-004D194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DDC-4047-4133-81AF-94C5BAA6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863-9C5D-4292-9842-137176B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766-2078-4BDB-8365-B4349D93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kype.com/" TargetMode="External"/><Relationship Id="rId2" Type="http://schemas.openxmlformats.org/officeDocument/2006/relationships/hyperlink" Target="http://www.skype.com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ropbox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pearsonsuccessnet.com/snpapp/login/login.jsp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dia.emgames.com/emgames/demosite/demolevel1.html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dnL00TdmLY" TargetMode="External"/><Relationship Id="rId2" Type="http://schemas.openxmlformats.org/officeDocument/2006/relationships/image" Target="../media/image5.gif"/><Relationship Id="rId3" Type="http://schemas.openxmlformats.org/officeDocument/2006/relationships/hyperlink" Target="http://www.wikispaces.com/user/my/tmpetty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oicethread.com/" TargetMode="External"/><Relationship Id="rId2" Type="http://schemas.openxmlformats.org/officeDocument/2006/relationships/hyperlink" Target="http://voicethread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iratepad.com/" TargetMode="External"/><Relationship Id="rId2" Type="http://schemas.openxmlformats.org/officeDocument/2006/relationships/hyperlink" Target="http://www.piratepad.net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Technology Tools with Colleagues, Students and Par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Staci Block, Ed.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Coordinator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Curriculum, Instruction, and Continuous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83229"/>
                </a:solidFill>
                <a:latin typeface="Times New Roman"/>
              </a:rPr>
              <a:t>Ventura County Office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lowchart: Document 3"/>
          <p:cNvSpPr/>
          <p:nvPr/>
        </p:nvSpPr>
        <p:spPr>
          <a:xfrm>
            <a:off x="14400" y="0"/>
            <a:ext cx="9129600" cy="1143000"/>
          </a:xfrm>
          <a:prstGeom prst="flowChartDocumen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Skype?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kype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ftware application that allows users to make voice calls over the Intern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can be made using the Skype service to other users of Sk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 traditional landline telephones and cell phones can be made for a 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295280"/>
            <a:ext cx="79246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Dropbox?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dropbox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ftware application that allows users to share documents, video, and pho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pbox is a fre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llaborativ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wallwisher.com – create a wall; add sticky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flickr.com – create an account; share photos with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docs.google.com – create an account; share documents with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pple.com/icloud/what-is.html - Mac version of dropbox, coming this Fall 5GB free of virtual storag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llaborativ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icasaweb.google.com – create an account; store and share photos; create slidesh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tikatok.com/ - create story book and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dipity.com – collaborative timeline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prezi.com - unique type of powerpoint presentation on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llaborativ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21things4teachers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ions we will answer during this presen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llaborative online tools are available and what do they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access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 begin using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I use these tools to collaborate with colleag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I use these tools to collaborate with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I use these tools to collaborate with par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073520" y="844560"/>
            <a:ext cx="61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 M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pearsonsuccessnet.com/snpapp/login/login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66294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1240" y="844560"/>
            <a:ext cx="8065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day Math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media.emgames.com/emgames/demosite/demolevel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2514600" cy="179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2971800" cy="169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33526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Wik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Program Files\Microsoft Expression\MEDIA\CAGCAT10\j030052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4267080"/>
            <a:ext cx="228132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341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VoiceThread?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voicethread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oiceThread is a collaborative, multimedia slide show that holds images, documents, and videos and allows people to navigate slides and leave comments in five different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VoiceThread, group conversations are collected and shared in on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ftware installation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 - Pair-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lleag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ar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PiratePad?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piratepad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aborative tool that is used to share information via tex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can collaborate on one document instan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ftware installation is requi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4479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04:02:23Z</dcterms:created>
  <dc:creator>Staci Erlandson</dc:creator>
  <dc:description/>
  <dc:language>en-US</dc:language>
  <cp:lastModifiedBy>vcsso</cp:lastModifiedBy>
  <dcterms:modified xsi:type="dcterms:W3CDTF">2011-08-11T20:05:41Z</dcterms:modified>
  <cp:revision>1</cp:revision>
  <dc:subject/>
  <dc:title>Using Technology Tools with Colleagues, Students and Parents</dc:title>
</cp:coreProperties>
</file>